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12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5B011-1B4B-4F1F-9453-B3DB0F7323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BFDFF-E57A-4405-AF59-01A8CECBD6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12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E478F-F9C4-411D-807F-BC25DA25B6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FAD5F-23CE-4C78-B594-E9A8D5B691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94942-0FCD-4B96-B459-10B2A78735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7EFF8-06EA-465A-9045-0B0126587C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E5D2D-64B3-490D-B3E1-990671B621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671AB-9AC0-44B6-AA93-926EAC60BF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12DD8-6F3A-4844-AD97-81B0DF996B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6921F-6A11-49E0-8C2B-E4C2403608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4B3D0-BFD4-4B8A-91D0-1B3ACE81DE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00FFF-EEE2-4ACC-8198-A5F43C5247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63D92-C3F5-45A9-B80C-7F0113B189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01EEA-5FC6-471B-A786-BC9E5199A4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89466-D735-4CCE-A42D-B1893F1712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F7A70-3398-48A6-8586-3D818375CB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80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3AC96-E81D-4286-A4A4-40D0BC83065E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1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" descr="C:\Documents and Settings\mcm08@fuse.net\My Documents\2005 Business Projects\Slides for Century 21 Accounting\cover art\0538972556_L.JPG"/>
          <p:cNvPicPr/>
          <p:nvPr/>
        </p:nvPicPr>
        <p:blipFill>
          <a:blip r:embed="rId2"/>
          <a:srcRect l="0" t="0" r="0" b="6180"/>
          <a:stretch/>
        </p:blipFill>
        <p:spPr>
          <a:xfrm>
            <a:off x="0" y="0"/>
            <a:ext cx="1033560" cy="128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80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0" y="640224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9" descr="C:\Documents and Settings\mcm08@fuse.net\My Documents\2005 Business Projects\Slides for Century 21 Accounting\cover art\0538972556_L.JPG"/>
          <p:cNvPicPr/>
          <p:nvPr/>
        </p:nvPicPr>
        <p:blipFill>
          <a:blip r:embed="rId2"/>
          <a:srcRect l="0" t="0" r="0" b="6180"/>
          <a:stretch/>
        </p:blipFill>
        <p:spPr>
          <a:xfrm>
            <a:off x="0" y="0"/>
            <a:ext cx="1033560" cy="12891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3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1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SSON 12-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6319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Preparing Payroll Chec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7B2EB-A294-4AA9-A692-394A0445EC7C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1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YROLL BANK ACCOU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5486400"/>
            <a:ext cx="3205080" cy="7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the check stu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C:\Documents and Settings\mcm08@fuse.net\My Documents\2005 Business Projects\Slides for Century 21 Accounting\Blue\ch12\C21_blue_1219.jpg"/>
          <p:cNvPicPr/>
          <p:nvPr/>
        </p:nvPicPr>
        <p:blipFill>
          <a:blip r:embed="rId1"/>
          <a:stretch/>
        </p:blipFill>
        <p:spPr>
          <a:xfrm>
            <a:off x="284040" y="1870200"/>
            <a:ext cx="8555040" cy="34318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3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-41040" y="5851440"/>
            <a:ext cx="33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the che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2255760" y="160020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5584680" y="1600200"/>
            <a:ext cx="41148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B8C34-900F-4815-A950-C2F544B411E4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1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LOYEE’S PAYROLL CHE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4" descr="C:\Documents and Settings\mcm08@fuse.net\My Documents\2005 Business Projects\Slides for Century 21 Accounting\Blue\ch12\C21_blue_1220.jpg"/>
          <p:cNvPicPr/>
          <p:nvPr/>
        </p:nvPicPr>
        <p:blipFill>
          <a:blip r:embed="rId1"/>
          <a:srcRect l="0" t="0" r="5518" b="14606"/>
          <a:stretch/>
        </p:blipFill>
        <p:spPr>
          <a:xfrm>
            <a:off x="304920" y="1828800"/>
            <a:ext cx="8534160" cy="3375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35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-49320" y="5486400"/>
            <a:ext cx="772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the check stub of each employee’s payroll che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-44640" y="5851440"/>
            <a:ext cx="57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each employee’s payroll che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5584680" y="1600200"/>
            <a:ext cx="41148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1"/>
          <p:cNvSpPr/>
          <p:nvPr/>
        </p:nvSpPr>
        <p:spPr>
          <a:xfrm>
            <a:off x="2255760" y="160020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8T16:50:40Z</dcterms:created>
  <dc:creator>M. C. McLaughlin</dc:creator>
  <dc:description/>
  <dc:language>en-US</dc:language>
  <cp:lastModifiedBy>bstromes</cp:lastModifiedBy>
  <dcterms:modified xsi:type="dcterms:W3CDTF">2014-12-22T17:12:24Z</dcterms:modified>
  <cp:revision>17</cp:revision>
  <dc:subject/>
  <dc:title>Lesson 12-1</dc:title>
</cp:coreProperties>
</file>